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02C17A-A7C3-4AB7-8C4C-4C4F1051EE6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A06BCD-3198-408E-B212-A41D99069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1F300F-ACF8-4F61-AC81-A63F6BB87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2060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7452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6668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2060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7452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8D3AA0-0EBC-4546-BC6F-3CB45CFB45A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514240" y="22824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89710D-9C33-4230-BFDF-8162DAEA0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060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7452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06668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72060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7452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C975DF-4C7F-4470-90FD-9FE1CE0A5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C7DADD-5619-45EC-A8CE-9D4941901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A36749-0193-4EFB-9251-443A7881F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514240" y="22824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84B5F6-042A-4C2B-AAA0-179BEEC45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2B0BFA-6F94-436D-9B41-1BEC2C357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4E604B-C3FB-49F0-8232-459F12DC7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43F7AC-6184-4A4B-B3E1-44BF95814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7527960" y="6499080"/>
            <a:ext cx="11271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Jump to first page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8637480" y="6551640"/>
            <a:ext cx="131760" cy="15408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8866080" y="6553080"/>
            <a:ext cx="131760" cy="15408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93360" y="6400440"/>
            <a:ext cx="106524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93720" y="6553080"/>
            <a:ext cx="84456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 </a:t>
            </a:r>
            <a:fld id="{8B6F4796-7DDE-4662-BBB2-B45FAF277720}" type="slidenum">
              <a:rPr b="0" lang="en-US" sz="9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6680" y="1523880"/>
            <a:ext cx="807732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496880" y="1676520"/>
            <a:ext cx="764712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90920" y="45684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28144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141120" y="6400440"/>
            <a:ext cx="26654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267080" y="4952880"/>
            <a:ext cx="4519800" cy="11289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isc.org/products/BIND/" TargetMode="Externa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isc.org/products/BIND/bind9.html" TargetMode="External"/><Relationship Id="rId2" Type="http://schemas.openxmlformats.org/officeDocument/2006/relationships/hyperlink" Target="http://www.isc.org/products/BIND/bind9-beta.html" TargetMode="External"/><Relationship Id="rId3" Type="http://schemas.openxmlformats.org/officeDocument/2006/relationships/hyperlink" Target="ftp://ftp.isc.org/" TargetMode="External"/><Relationship Id="rId4" Type="http://schemas.openxmlformats.org/officeDocument/2006/relationships/hyperlink" Target="http://www.isc.org/services/public/lists/bind-lists.html" TargetMode="External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590920" y="999720"/>
            <a:ext cx="6248160" cy="60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Installing BIND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oe Able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abley@isc.or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uilding BIND9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/configu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k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udo make instal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E78CBD-2F81-4C49-801E-C631E982B3B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happe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Executabl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/usr/local/sbin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dnssec-keygen, dnssec-makekeyset, dnssec-signkey, dnssec-signzon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lwresd, named-checkconf, named-checkzon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rndc, rndc-confge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named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/usr/local/bin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di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host, isc-config.sh, nslookup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nsupdat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nd libraries "happen"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5E278B-20C5-4603-A9E2-A992CEF0E5A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estin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ke sure right version is now install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amed -v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5FA1D9-3B09-46AE-9107-E8E5AC84E05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514240" y="771120"/>
            <a:ext cx="6095880" cy="60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verview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trieving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ilding, Installing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iling Lis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125DBD-F313-4539-9C4F-A89725CD9EE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IND 9 Mailing List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oining mail lis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ttp://www.isc.org/services/public/lists/bind-lists.htm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ind9-users, bind-annou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bind-users is for bind8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rchi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ttp://www.isc.org/ml-archives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E2D0AE-11F2-4C76-BB53-692811DB6F8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514240" y="771120"/>
            <a:ext cx="6095880" cy="60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verview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trieving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ilding, Installing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iling Lis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BCCC9B-DD70-4FCA-9F31-173C6760545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trieving BIND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ternet Software Consortiu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HTT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T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packages we'll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56BD64-CB16-4B0B-AE57-DFA2125FBA5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nternet Software Consortium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ource for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Software: DHCP, NNT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der Development: OpenReg (EPP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99"/>
                </a:solidFill>
                <a:uFillTx/>
                <a:latin typeface="Arial"/>
                <a:hlinkClick r:id="rId1"/>
              </a:rPr>
              <a:t>http://www.isc.or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65F41C-410C-4812-9C91-E9FA1A8D587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IND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Version 8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In use, available, obsolete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Don't start to use it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Migrate to Version 9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(Okay, BIND 8 is faster than BIND 9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Version 9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Current version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Releas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Release Candidate (Betas)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napshots (Alphas)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Never Use Snapshots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6261E9-BDFC-4562-B969-31CA2BEDBC0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Getting BIND 9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HTT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99"/>
                </a:solidFill>
                <a:uFillTx/>
                <a:latin typeface="Arial"/>
                <a:hlinkClick r:id="rId1"/>
              </a:rPr>
              <a:t>http://www.isc.org/products/BIND/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99"/>
                </a:solidFill>
                <a:uFillTx/>
                <a:latin typeface="Arial"/>
                <a:hlinkClick r:id="rId2"/>
              </a:rPr>
              <a:t>http://www.isc.org/products/BIND/bind9.html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BIND 9.2.1 toda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99"/>
                </a:solidFill>
                <a:uFillTx/>
                <a:latin typeface="Arial"/>
                <a:hlinkClick r:id="rId3"/>
              </a:rPr>
              <a:t>http://www.isc.org/products/BIND/bind9-beta.html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BIND 9.2.2.rc1 toda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FT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99"/>
                </a:solidFill>
                <a:uFillTx/>
                <a:latin typeface="Arial"/>
                <a:hlinkClick r:id="rId4"/>
              </a:rPr>
              <a:t>ftp.isc.org</a:t>
            </a: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 - anonymou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Change Directory to /isc/bind9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cd 9.2.1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cd 9.2.2rc1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tp://ftp.isc.org/isc/bind9/9.2.2rc1/bind-9.2.2rc1.tar.gz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893ECA-1896-422A-A6DC-EFEB8BEB9B2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ther Packag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SS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ill be needed for DNSSEC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Let's wait on that..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B1CF10-265F-4F50-A725-008538AD524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514240" y="771120"/>
            <a:ext cx="6095880" cy="60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verview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trieving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ilding, Installing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iling Lis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4FD3FD-56A8-473F-A643-00D9663A85B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Unpacking BIND9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ar -xzf bind-9.2.2rc1.tar.gz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Uncompresses and creates direct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ind-9.2.2rc1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at's in there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 lot of stu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/configure (scri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/doc/arm/Bv9ARM.htm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dministrator's Reference Manua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ood source!!!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3E90B5-D2A5-442B-90A2-E9A33F5BC28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9T01:37:02Z</dcterms:created>
  <dc:creator>ARIN Net</dc:creator>
  <dc:description/>
  <dc:language>en-US</dc:language>
  <cp:lastModifiedBy>Marmaduke Wildebeeste</cp:lastModifiedBy>
  <cp:lastPrinted>2009-04-22T19:24:48Z</cp:lastPrinted>
  <dcterms:modified xsi:type="dcterms:W3CDTF">2003-06-01T20:46:17Z</dcterms:modified>
  <cp:revision>11</cp:revision>
  <dc:subject/>
  <dc:title>Getting and Installing BIND</dc:title>
</cp:coreProperties>
</file>